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0EE-19C4-43BE-AE72-51647125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9C23-0331-4922-926E-AE5BF76D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BE4-4EC3-4DA9-9C89-8F58E833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C61-7FE1-4361-AEB2-F68C61B7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EFA-860C-47C1-9947-9E28A21C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BC4-1F12-4026-ADEE-E1F12969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3C8-6976-436C-B02E-6F1A9750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FEB-8202-4EC5-AD3C-AE7A939E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409-71D8-4D8A-8D5C-5D3DF8A8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6DB-3A52-4363-87FB-ED970FF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1E7-E337-4446-A6CD-5F3FC72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E2F-62E9-4528-A693-C46478C9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C6D9-FB80-41BD-9C26-E090F2FD0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5:03Z</dcterms:created>
  <dc:creator>Juergen Schmitz</dc:creator>
  <dc:description/>
  <dc:language>en-US</dc:language>
  <cp:lastModifiedBy>Juergen Schmitz</cp:lastModifiedBy>
  <dcterms:modified xsi:type="dcterms:W3CDTF">2006-09-18T12:15:29Z</dcterms:modified>
  <cp:revision>1</cp:revision>
  <dc:subject/>
  <dc:title>Folie 1</dc:title>
</cp:coreProperties>
</file>